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1C7-CB82-42B0-A601-DA9304CF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EDBB-88B9-4F49-B79D-7A1C37E5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138C-2431-4705-BC92-4F9FBD09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D165-F7DA-43F7-96E3-12928B0A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7DD1-11DB-4143-BFF8-299F5EDB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FFC3-062F-4A19-B7E7-34256AC9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AB81-2FC1-4327-9BB5-DD7E026F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E51A-CF32-4DB4-81EB-33E2FB82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A020-DB5A-4912-982F-E7BB9799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C6FF-D31E-498F-88CE-6F2D6D41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5ED1-FF19-4068-8AF3-C947CC56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640A-FE6C-48A2-8639-9F868802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7F28-3EFB-4E50-A6B5-8D743000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4670-9817-42C9-A100-3E4EBC03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7768-D5A2-4F57-B8B2-9FB291A6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5C92-711D-47BE-BE0B-18FAA29B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E559-7C4F-4130-8051-EE7D7300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C5D42-C913-4BCB-9455-D2DF20ED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9A30F-29B7-4334-AA90-3D870F03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4FE21-8B13-4CA6-A59C-C4346DFF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EC7B3-E266-46F5-B974-76B8B8E3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279ED-AC7A-437C-B7ED-21588EE8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4032-F72B-40F3-A10E-25396B47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D6517-9A5D-4ED9-B762-C851F981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A1226-83CD-4154-BD96-917AFA66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49AC4-8A9A-4D81-A2E6-4E440E6B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86F7B-7B4A-4081-BBB4-E55A9210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62FDD-B954-4F1E-B98B-9C70174A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F4F8F-578C-401E-88DB-30F29A81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E3BCB-2167-4404-B373-F06551D7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262BC-ABE8-4429-ABC3-04DF75E9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87524-4711-4FD7-9EAA-1B17AE78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EDDF1-2442-4A4A-AAA0-EFB9E3AF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98A2-7B16-4BA1-BE26-BCED16D7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02422-1431-4129-B5D2-148B50A8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A03F3-E29E-4455-9D86-DC5B3187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480B6-0491-4215-A552-B2AB7D1D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4F0CB-2639-4411-978B-A1FC43CE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8236D-E3B5-4AD7-B07E-992B32B2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676F8-9691-4948-9E98-90940867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56179-35A9-4A87-A389-3810966E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71B2F-E01F-4798-9D5B-3E2E3979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D6786-695F-4BF8-BDD1-EFD14AEC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1C5-B804-484E-8D0F-ED9B9F62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F4FD-73D2-4B9D-AC00-91A012B7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CB02-781D-4119-AC74-66AC85E6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7B3F-DC58-4B4A-ABED-7A93CFEE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3230-A5F9-4F54-A7B7-7396E157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9510-388F-461E-B6E2-513F3943153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8F28-C7BA-45A2-A6EF-2294B982D98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7F1F-4DC0-40BE-BB7F-7D3BD4B7EF9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3B07-B18E-490E-AC77-B31444F2DAE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reamworlds.ru/uploads/posts/2009-11/1259174879_1258_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rugosvet.r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4549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8110440" cy="2486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езентацию выполнил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ченики 7 «в» класса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дько Василий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инин Иван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Бортник Марин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i-main-pic" descr="Картинка 23 из 723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28800" y="1714680"/>
            <a:ext cx="7358040" cy="421452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752400" y="71424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Цель презен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анализировать орбиту и скорость ком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64296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МЕТА,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большое небесное тело, движущееся в межпланетном пространстве и обильно выделяющее газ при сближении с Солнцем. С кометами связаны разнообразные физические процессы, от сублимации (сухое испарение) льда до плазменных явлений. Кометы – это остатки формирования Солнечной системы, переходная ступень к межзвездному веществу. Наблюдение комет и даже их открытие нередко осуществляются любителями астрономии. Иногда кометы бывают столь яркими, что привлекают всеобщее внимание. В прошлом появление ярких комет вызывало у людей страх и служило источником вдохновения для художников и карикатурист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вижение ядра кометы полностью определяется притяжением Солнца. Форма орбиты кометы, как и любого другого тела в Солнечной системе, зависит от ее скорости и расстояния до Солнца. Средняя скорость тела обратно пропорциональна квадратному корню из его среднего расстояния до Солнца (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. Если скорость всегда перпендикулярна радиусу-вектору, направленному от Солнца к телу, то орбита круговая, а скорость называют круговой скоростью (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Constantia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 на расстоянии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Скорость ухода из гравитационного поля Солнца по параболической орбите (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 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 больше круговой скорости на этом расстоянии. Если скорость кометы меньше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то она движется вокруг Солнца по эллиптической орбите и никогда не покидает Солнечной системы. Но если скорость превосходит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то комета один раз проходит мимо Солнца и навсегда покидает его, двигаясь по гиперболической орбит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 рисунке показаны эллиптические орбиты двух комет, а также почти круговые орбиты планет и параболическая орбита. На расстоянии, которое отделяет Землю от Солнца, круговая скорость равна 29,8 км/с, а параболическая – 42,2 км/с. Вблизи Земли скорость кометы Энке равна 37,1 км/с, а скорость кометы Галлея – 41,6 км/с; именно поэтому комета Галлея уходит значительно дальше от Солнца, чем комета Энк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785840" y="714240"/>
            <a:ext cx="3900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ИПЫ ОРБИТ. Эллиптическая орбита кометы Галлея имеет наклонение 18° к плоскости земной орбиты. Орбита кометы Энке наклонена на 12°. Показана также параболическая орбит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Рисунок 4" descr="ТИПЫ ОРБИТ. Эллиптическая орбита кометы Галлея имеет наклонение 18° к плоскости земной орбиты. Орбита кометы Энке наклонена на 12°. Показана также параболическая орбита. "/>
          <p:cNvPicPr/>
          <p:nvPr/>
        </p:nvPicPr>
        <p:blipFill>
          <a:blip r:embed="rId1"/>
          <a:stretch/>
        </p:blipFill>
        <p:spPr>
          <a:xfrm>
            <a:off x="571680" y="428760"/>
            <a:ext cx="380988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285920" y="428400"/>
            <a:ext cx="7400880" cy="58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Ядро кометы галлея, схематическое изображение кометы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3" descr="ЯДРО КОМЕТЫ ГАЛЛЕЯ, схематическое изображение кометы. "/>
          <p:cNvPicPr/>
          <p:nvPr/>
        </p:nvPicPr>
        <p:blipFill>
          <a:blip r:embed="rId1"/>
          <a:stretch/>
        </p:blipFill>
        <p:spPr>
          <a:xfrm>
            <a:off x="2071800" y="785880"/>
            <a:ext cx="48765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Информационные ресурсы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krugosvet.r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http://astro.websib.r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2:14:45Z</dcterms:created>
  <dc:creator>Анжелика</dc:creator>
  <dc:description/>
  <dc:language>en-US</dc:language>
  <cp:lastModifiedBy>Анжелика</cp:lastModifiedBy>
  <dcterms:modified xsi:type="dcterms:W3CDTF">2010-05-15T12:52:43Z</dcterms:modified>
  <cp:revision>4</cp:revision>
  <dc:subject/>
  <dc:title>Орбита и скорость. </dc:title>
</cp:coreProperties>
</file>